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036440" y="712800"/>
            <a:ext cx="50022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08120" y="4457520"/>
            <a:ext cx="56592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dt" idx="55"/>
          </p:nvPr>
        </p:nvSpPr>
        <p:spPr>
          <a:xfrm>
            <a:off x="400536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ftr" idx="56"/>
          </p:nvPr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 type="sldNum" idx="57"/>
          </p:nvPr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FF306-168C-47B3-B478-303D0E474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A4B2-8782-4981-AABC-B6B40977C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3564-8DDF-4D24-B00E-DD389ACC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0C816-96BF-4BC7-9B47-CC0A2FEA9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A4B26-97BC-44C4-B2C6-F2C7D1F25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44C16-7D56-4D9F-A2CC-B1137AC2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3045-C7F6-4086-BAEF-B6B5FC17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935F7-4A0C-46A2-8B52-AA52E8B09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6192D-5557-4368-93F5-24BDA9262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201D5-C86E-4E53-9D94-300C7C260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3192A-EFCC-4FA5-A524-FB2CF09C7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62610-3DA1-4700-A560-38E7E6A41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1B63B-0472-43B7-84D1-2D3BCC66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6551A-5F4D-4762-B1F3-D0C968415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FB302-3448-4FD7-B0B8-522A8D8C1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C40-0BAD-468C-B7E7-C8382A41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431-78DD-49A8-BDCB-7A0B099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4318D-138F-4781-8D13-319208B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7C655-5BFD-4603-A4D7-64FF53E9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CCAFA-5ED0-4E4C-A793-9ED47EB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C61E1-D599-4B27-BE4E-7B1F129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89DC-78DC-4FB6-955B-2BFFE13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3BD4C-C428-41A0-8004-4727071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94E07-DF04-43DF-965C-A0169E0A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ABC4D-36DD-45D0-AAC6-045EB843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BB7C4-45ED-4369-865D-C460CCA0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96134-9ADB-4C84-A76A-981F4924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344-4448-46A4-A390-EB77D8B6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4594D-AE7C-4CAD-AF0B-AA16401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8F51D-EB1F-4C41-B413-89945D7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950FE-1C53-415F-94FF-07F0F933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014F5-D89E-4AEB-A4FD-2EEADBE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5BE65-6961-4D47-87A5-2F8D86D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51C06-D9EB-4CC5-9BE3-0057765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59308-1AE9-4CE9-A81A-6C96FFE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395DB-2142-497C-9066-A418788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47ADD-8F73-450B-9819-09FCB1ED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940C6-9498-4B77-8CCD-5DFEF009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A15-2C66-4A6F-9A22-914D68B9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63B2B-2254-4573-A793-142977BE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BB1B-80C8-49D6-8779-0974FAA7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2C4A3-A253-47B2-A6A6-44189070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29E51-6B2A-4483-9657-B178027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BB83D-E2B1-4722-998D-0807498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36E5E-2626-403C-94AF-D89E0350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ED8B-A21B-4486-B938-A5F8329B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9C5FA-6081-403D-B3D5-4EE93164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27ED-22F7-467C-864E-269E360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5BE98-0AF8-4695-BEAA-A87D5A8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4CF-B369-46ED-8D7F-294F5D43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4DDB-0CD5-4F11-A069-0C7003FE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587E2-5D92-4D33-A481-A7454C2E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A16FB-7495-4A97-A371-70CE11FD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F1DE4-489B-4DC6-9234-64A6921A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1BEC1-7884-4705-8B72-AFEDFA92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7F10F-9251-48C3-9871-C83331A3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B056B-95F3-4AA7-AC4D-9D76B14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2F119-CBB0-434E-9ED4-642C404D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2E6D4-13DC-4097-B0A6-2498ED79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9E808-BAF9-46F7-9348-2B6D25F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36E7-DCD2-481A-842B-74574CBB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E14E-46B5-4664-B7FD-A2CF43E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B5B99-BD19-46B5-A136-B3BB1F6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A1BB2-F8CC-48FC-ADD7-30FC53AE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655F4-8FE1-4EE4-9417-96548306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EBA85-9E9B-404C-B86D-6103C6D4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55D2A-913F-424F-892F-8F8E06F3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FFDC3-EE4E-422B-96C5-2B78C129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E1EEB-3173-4A9E-AF95-B804A3EB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AFA6-F0E7-498E-A2EF-7132D03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1DF32-DAE0-491E-B232-E12B731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9564-4946-4EEE-B91D-5A20B60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5CDEB-44F6-46AB-8192-8731D5E7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C6FF8-FDEE-42A2-A09C-ECB75337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C8EF7-04FF-4B1B-9AED-71D3C6D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E4662-E75F-4588-AC5F-B8BABAA6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36254-58C9-44F8-8B0E-0B3B05CC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599A7-FB8E-4D38-85FD-6A256073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F942D-E1E9-4CA9-A575-40B17BC5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91D13-3E51-43F3-85C8-F90FC5F0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52521-9FD8-4FD4-9B5F-5A2D70E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82173-76F4-4A5E-9004-8C1B82AD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F265-F28B-4C2B-923B-3A5C88D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2CECA-9774-44DC-AF12-CCACB66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E5662-D1AF-4C53-A27C-B2BE853E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8A850-8EFC-443A-8720-73D3C537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992BE-BD11-445B-9B76-0FC593CF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44589-0A9F-4947-BED9-9B015E1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FE1EE-0AB8-48F3-ADA9-4DDDA29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BBEE0-014E-4D5D-A857-238D86F7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2F90F-9F8D-48A3-8198-1320B11A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3B47F-480A-425A-96F2-5AAF0490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DCECA-1612-45D6-8547-20D250B9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7E2F-281D-428E-976D-2053447E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743FA-21A8-483B-8530-F07DF8A6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C0766-5792-40AE-948D-357A69F2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01BE3-7FF2-437D-B877-C082BFC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1C146-AB12-42E2-846D-79459A55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2D300-78F6-4DF5-AA61-7F72B13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B22AF-B528-4053-9460-BC80B60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2DC5A-A0F6-425C-9EA2-800732F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46953-21B2-405D-8C6E-1CCCD05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60D7B-B5B6-4AF3-B030-DFF3169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F5329-74AA-4AC2-90C5-E88DAF0A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2A95-194E-4831-B0C7-58ECCF4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79F13-BD16-4F1F-9998-891C0164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243BD-5074-47BB-9165-BDCF076C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A181B-7702-4B78-B49F-DD5CB83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80060-AF46-4955-A0DB-9F70D6C2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87EAB-CC34-457E-A1F3-E265580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3C8AB-13FA-4AF9-81E8-12830A75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7E8F48-42F0-429E-B749-B390625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07209-03BD-46AB-8A1D-8AFA7C5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5E97F-074E-464C-AA72-A767228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E4DDB-6AE7-4706-B067-9184F13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441-AEBF-4DD7-9323-4EEDC14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CB72A-DFC6-43E2-A4EB-EB9ADE2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9DB21-0872-4C74-BE9C-399EF38B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D06DA-475C-447E-A359-8EB8DFEC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ADFC2-A85D-4AF2-88EE-431A0E39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6FECF-E58C-4DAB-8568-0B0E8ED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945EC-4875-4C94-A3B7-CE141ED7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8F8FA-7038-4F8B-A9E2-495A351F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4E5BF-68EA-4ED8-8C81-62787AA5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C59B1-BCC0-463D-AEF7-164F1423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026DD-CEBD-4C12-A091-596FD76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456-A308-4F33-956B-196D1790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6B20-B962-40EE-8CDC-F6DE8B3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DB064-13DD-4CE7-870C-CC4E4DA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8E0417-0E6E-4747-B650-DFF9357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71259-4E4F-40FB-B88F-1A7DECA1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8CA12-E0EE-4BDA-86DC-6262EB2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0DE07-477D-4AF4-B431-A67B5855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3B6A6-CDD1-4635-921F-7D90181D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D3039-1609-4C4D-B409-481F9E0F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9966E-04DD-4F3A-9DD2-A677357E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507CA-3536-43AB-AD29-8D08685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FDC7F-37F2-4ACC-8F5D-F7C5612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B105-CDB8-4C90-A829-1B7C9D9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D3B83-92B2-4F51-860E-78FCFB3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8C21B-54BE-4287-A5AD-E0ABF19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1CEDB-E37A-470F-83B7-9191296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C1CBA-4CFA-47E9-89F8-2FBFF3C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DE272-18BA-4511-9BD5-5F5E2BF5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D967F-2A66-4792-9243-C3E5C807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6C8FC-413B-4C85-A588-D9C031A1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843-10FD-4F77-AA4F-5E0D95F1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811B-6C8A-4305-A0CC-C1B31E06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B30C-4935-4A13-9878-0382F78C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0059-5B5E-4412-9ADF-AE7C22AB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20B1-FD00-4CFA-B411-339A2BB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C75B-A2F7-44BC-BC79-A77F9397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F61D-E165-4B6E-85F7-8F5041B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8A93-855A-42CC-9924-9D52002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544-A53C-4869-9043-001281A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1AF1-03CE-48F1-8876-5D95AE4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B7A8-A89C-41CE-9E7D-9FF05656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4A44-8D8C-449D-9E28-BAD5419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2F53-BB71-4FB9-BD59-2B45C6E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72AF-2E6D-46B9-AFDF-AC2C156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C014-B5BC-4522-8692-2A8F1BB2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3E93-1A11-4E09-A63F-78723B53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1D6A-53A9-4797-AA79-5794B35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73B1-6E9E-40C0-B450-ED03F16C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FF13-4C68-44DC-AC34-E657963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D64-E3F2-4C70-887D-6E0597C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C0FB-1885-4CBB-BE86-8A6E4E0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514F-937D-48B7-92EC-D0717C4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C3BC-40D4-4EC6-AFF9-F9DAC7D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AC5B-1B04-41E8-9315-15700ED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F177-44EC-40B0-A360-032089C4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29C6-31F7-48EC-89D1-62976617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FEC8-E2DC-4230-854D-3FC2CC1D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41CB1-90A0-4CEA-87E6-72565ADC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CC8D-40C3-463D-B63F-0AAD867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30F9-A1E0-4B10-B892-A500352A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897-4153-4384-8A59-21B5E5ED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4E31-6A83-4FE7-AC1F-31A10A8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0A20-B15B-48DB-B67F-6D2E5B7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ACAA-0487-438B-8543-693F46C6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EACB-FCCA-473C-950D-821FE2A3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A81C-D182-472B-8F1D-B2E8C18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7403-EBAC-45BF-8C5D-DEDD6170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73C7-1662-4EC0-871B-571EBD3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B5AC-C09D-495D-B86F-5F0EB8E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0E04-DA7B-4E02-8381-1BDD04C7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329E-1653-49EC-ACAB-73661161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E59-95A9-46D3-B799-1DCCD612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AFCF-028C-4273-8F97-555DA408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A360C-7F82-4531-8BE2-8BD65CA2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ABB5-2A4E-49E7-A0C5-59CF58C7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7D63-75FD-472A-9C76-4661F1BB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86AB-EE5C-4D7F-8FF4-B205517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C81B-7964-42BD-8066-C5BEE674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1ADC-0C05-4D60-BDD1-511FA34F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E968B-CF38-42D8-9112-8E88D2F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53DB-3191-4693-BFCF-48F2E7E2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89C3-CEFA-485E-A172-81E8C68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894-F0EF-4709-8BB6-88D5E00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7272-E210-4954-B4C5-3875E0C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6A1A-ECD4-4037-AC4B-FD92114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4553-2309-47A8-ADBC-DDF34DBE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131DD-9A6A-490E-8910-9BA1DC0B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BA6C-5CAA-42B1-BFD6-F1A71A78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6762-4D94-417D-8281-BAD2530A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4DCF-9765-4E26-982C-F693CB5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C787D-FBAA-42B7-9D8A-1F4F1D2A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6FEC-0430-4A49-904A-FE688C0E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8BDE-4ADC-4307-B338-4D33D32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ACB-6E65-496D-B11A-831F586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0232B-9BD3-4BF3-B567-705D388D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23B35-3CB0-44F3-90CB-505522A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F000-C906-447D-AA2C-344FCEB4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9DE7E-4672-451E-9FC7-BCE57913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93BD-9924-460E-9DFB-35DD68A8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1CAC-21A1-4937-B97F-CF43593D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290C8-7E0C-4E45-BCA6-6D7413DA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44F4B-19E8-4D69-8945-4075698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4F66-B5C6-4D56-9C39-929E042B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F1AAC-8DF9-436B-B0DF-A0D9FF90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3FB-225B-4027-8BCC-FB23BAC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EC15-9A77-4E6E-B4F7-6CCA7A39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41EB-65D6-4F92-BCF7-6D219A6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71F8-4630-43CC-85E0-9AF3EDC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4AEF-516D-46B9-8DD9-2363539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70B83-9EBD-4029-B7DD-0561D9DE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4CE4-E1B8-41AB-B91C-6F6DA956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29C63-0643-4B40-A35A-BD4B396B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872BF-404D-42FB-85A5-5108E93F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4CEFA-4640-4A0A-8085-78736C5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D72F3-2F5C-4499-961A-B4C8FDB2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5CF00-F621-42C5-9A6C-3F8669B8B0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8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9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7B586-EE15-420C-8F65-55185DDFDE9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99867-879B-44B0-AF2C-549967E627C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4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5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6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E1B-6EA8-4B6C-BF66-64C734244D3E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7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8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9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1D58-DD13-454C-B687-BDC3553348C6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A5763-4DDD-4D93-BAC9-AAAB39A27DB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4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2BB1D-0BC1-4884-915C-06FBE05D1F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A0B95-CA8C-44A7-9A02-82E68A3AAD6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49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2987A-6AB3-413D-8C4E-2F9CA8CD5F9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5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5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5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8B324-CFB9-4F6C-8E45-F54117C3622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2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31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24D5B-F9BB-4DBF-A170-F07B42987C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EC05F-FD21-47DD-9CF4-E3A3F40E13F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F4DF4-6925-4141-8E3D-EBC236AD83C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5742F-31F2-4F12-8330-83544626B58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5C267-1421-4560-B78A-B7F013077D0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10811-3B49-46DF-923F-7CF8B21E78F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031DB-545A-457A-AE24-F3FC57CFE30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79747-8DD6-49B0-8861-5E65B40184D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121608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hapter 4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Momentum and Collision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B2E1C-7370-4EE4-86A0-4656E9548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 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BA809-A891-4D0C-BA99-45CA9AC57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1784880" y="209232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 Box 3"/>
          <p:cNvSpPr/>
          <p:nvPr/>
        </p:nvSpPr>
        <p:spPr>
          <a:xfrm>
            <a:off x="2886480" y="320040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remove" presetClass="emph" presetID="6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remove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8A5AE-70C9-4309-BF9D-E2100B135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BB6CE-5D43-41CF-BD47-A7797D553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54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6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20" dur="5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29" dur="500" fill="hold"/>
                                        <p:tgtEl>
                                          <p:spTgt spid="1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233" dur="5000" fill="hold"/>
                                        <p:tgtEl>
                                          <p:spTgt spid="1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235" dur="500" fill="hold"/>
                                        <p:tgtEl>
                                          <p:spTgt spid="1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89607-7446-40CB-B922-352CE9FA4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0484-41DA-4B14-8E3F-D5C5466AE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3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2"/>
          <p:cNvSpPr/>
          <p:nvPr/>
        </p:nvSpPr>
        <p:spPr>
          <a:xfrm>
            <a:off x="2743920" y="1905120"/>
            <a:ext cx="421920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O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Time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2"/>
          <p:cNvSpPr/>
          <p:nvPr/>
        </p:nvSpPr>
        <p:spPr>
          <a:xfrm>
            <a:off x="1721880" y="2590920"/>
            <a:ext cx="605880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a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Atten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1212120" y="487692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2"/>
          <p:cNvSpPr/>
          <p:nvPr/>
        </p:nvSpPr>
        <p:spPr>
          <a:xfrm>
            <a:off x="1212120" y="484668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5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650"/>
                            </p:stCondLst>
                            <p:childTnLst>
                              <p:par>
                                <p:cTn id="25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2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7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2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00"/>
                            </p:stCondLst>
                            <p:childTnLst>
                              <p:par>
                                <p:cTn id="2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75" dur="5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750"/>
                            </p:stCondLst>
                            <p:childTnLst>
                              <p:par>
                                <p:cTn id="289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25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1750"/>
                            </p:stCondLst>
                            <p:childTnLst>
                              <p:par>
                                <p:cTn id="2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98" dur="5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302" dur="5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50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5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318" dur="5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29017-82D4-48A7-A7AD-B98EA8942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1533960" y="356544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3"/>
          <p:cNvSpPr/>
          <p:nvPr/>
        </p:nvSpPr>
        <p:spPr>
          <a:xfrm>
            <a:off x="2810160" y="469116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673920" y="237024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3304800" y="1447920"/>
            <a:ext cx="26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qua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3371040" y="3886200"/>
            <a:ext cx="24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im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00243 -0.34445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322"/>
                            </p:stCondLst>
                            <p:childTnLst>
                              <p:par>
                                <p:cTn id="380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00277 -0.1743 E">
                                      <p:cBhvr>
                                        <p:cTn id="381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322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F9965-6BFD-4369-8947-7F01BF763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2"/>
          <p:cNvSpPr/>
          <p:nvPr/>
        </p:nvSpPr>
        <p:spPr>
          <a:xfrm>
            <a:off x="3000240" y="173052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m 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2803680" y="1889280"/>
            <a:ext cx="362736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 Box 2"/>
          <p:cNvSpPr/>
          <p:nvPr/>
        </p:nvSpPr>
        <p:spPr>
          <a:xfrm>
            <a:off x="2160000" y="3124080"/>
            <a:ext cx="45316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Unit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kg-m/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673920" y="-3348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2211120" y="5105520"/>
            <a:ext cx="436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Vecto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6483-A650-4B4D-A8D9-0FADA8559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1584000" y="15238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1098720" y="3581280"/>
            <a:ext cx="682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78" name="Picture 3" descr=""/>
            <p:cNvPicPr/>
            <p:nvPr/>
          </p:nvPicPr>
          <p:blipFill>
            <a:blip r:embed="rId1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" descr=""/>
            <p:cNvPicPr/>
            <p:nvPr/>
          </p:nvPicPr>
          <p:blipFill>
            <a:blip r:embed="rId2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5" descr=""/>
            <p:cNvPicPr/>
            <p:nvPr/>
          </p:nvPicPr>
          <p:blipFill>
            <a:blip r:embed="rId3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82" name="Picture 7" descr=""/>
            <p:cNvPicPr/>
            <p:nvPr/>
          </p:nvPicPr>
          <p:blipFill>
            <a:blip r:embed="rId4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8" descr=""/>
            <p:cNvPicPr/>
            <p:nvPr/>
          </p:nvPicPr>
          <p:blipFill>
            <a:blip r:embed="rId5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9" descr=""/>
            <p:cNvPicPr/>
            <p:nvPr/>
          </p:nvPicPr>
          <p:blipFill>
            <a:blip r:embed="rId6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86" name="Picture 3" descr=""/>
            <p:cNvPicPr/>
            <p:nvPr/>
          </p:nvPicPr>
          <p:blipFill>
            <a:blip r:embed="rId7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4" descr=""/>
            <p:cNvPicPr/>
            <p:nvPr/>
          </p:nvPicPr>
          <p:blipFill>
            <a:blip r:embed="rId8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5" descr=""/>
            <p:cNvPicPr/>
            <p:nvPr/>
          </p:nvPicPr>
          <p:blipFill>
            <a:blip r:embed="rId9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90" name="Picture 7" descr=""/>
            <p:cNvPicPr/>
            <p:nvPr/>
          </p:nvPicPr>
          <p:blipFill>
            <a:blip r:embed="rId10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8" descr=""/>
            <p:cNvPicPr/>
            <p:nvPr/>
          </p:nvPicPr>
          <p:blipFill>
            <a:blip r:embed="rId11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9" descr=""/>
            <p:cNvPicPr/>
            <p:nvPr/>
          </p:nvPicPr>
          <p:blipFill>
            <a:blip r:embed="rId12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12" dur="2000" fill="hold"/>
                                        <p:tgtEl>
                                          <p:spTgt spid="1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1" dur="5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25" dur="2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7" dur="5000" fill="hold"/>
                                        <p:tgtEl>
                                          <p:spTgt spid="10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2F5E6-D86D-45C6-B812-D859EEDA6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2"/>
          <p:cNvSpPr/>
          <p:nvPr/>
        </p:nvSpPr>
        <p:spPr>
          <a:xfrm>
            <a:off x="2622960" y="1447920"/>
            <a:ext cx="38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2216880" y="3581280"/>
            <a:ext cx="48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7" name="Picture 4" descr=""/>
          <p:cNvPicPr/>
          <p:nvPr/>
        </p:nvPicPr>
        <p:blipFill>
          <a:blip r:embed="rId1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6" descr=""/>
          <p:cNvPicPr/>
          <p:nvPr/>
        </p:nvPicPr>
        <p:blipFill>
          <a:blip r:embed="rId2"/>
          <a:stretch/>
        </p:blipFill>
        <p:spPr>
          <a:xfrm>
            <a:off x="-1378080" y="266544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6" descr=""/>
          <p:cNvPicPr/>
          <p:nvPr/>
        </p:nvPicPr>
        <p:blipFill>
          <a:blip r:embed="rId3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6" descr=""/>
          <p:cNvPicPr/>
          <p:nvPr/>
        </p:nvPicPr>
        <p:blipFill>
          <a:blip r:embed="rId4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5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024 L 0.31754 -0.05324 C 0.38403 -0.06527 0.48351 -0.07199 0.58733 -0.07199 C 0.70573 -0.07199 0.80035 -0.06527 0.86684 -0.05324 L 1.18473 0.00024 E">
                                      <p:cBhvr>
                                        <p:cTn id="39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31718 -0.05324 C 0.38385 -0.06528 0.48316 -0.07199 0.58697 -0.07199 C 0.70538 -0.07199 0.79982 -0.06528 0.86631 -0.05324 L 1.18402 1.48148E-006 E">
                                      <p:cBhvr>
                                        <p:cTn id="48" dur="3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31718 -0.06157 C 0.38385 -0.07546 0.48316 -0.0831 0.58698 -0.0831 C 0.70521 -0.0831 0.79982 -0.07546 0.86632 -0.06157 L 1.18402 -7.40741E-007 E">
                                      <p:cBhvr>
                                        <p:cTn id="52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31719 -0.06157 C 0.38386 -0.07546 0.48316 -0.0831 0.58698 -0.0831 C 0.70521 -0.0831 0.79983 -0.07546 0.86632 -0.06157 L 1.18403 -2.96296E-006 E">
                                      <p:cBhvr>
                                        <p:cTn id="54" dur="3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49247-09C4-4747-93D5-D63761198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-4419720" y="225432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3"/>
          <p:cNvSpPr/>
          <p:nvPr/>
        </p:nvSpPr>
        <p:spPr>
          <a:xfrm>
            <a:off x="2988720" y="1447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4"/>
          <p:cNvSpPr/>
          <p:nvPr/>
        </p:nvSpPr>
        <p:spPr>
          <a:xfrm>
            <a:off x="2581200" y="358128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7" name="Picture 6" descr=""/>
          <p:cNvPicPr/>
          <p:nvPr/>
        </p:nvPicPr>
        <p:blipFill>
          <a:blip r:embed="rId2"/>
          <a:stretch/>
        </p:blipFill>
        <p:spPr>
          <a:xfrm>
            <a:off x="-4433760" y="223992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6" descr=""/>
          <p:cNvPicPr/>
          <p:nvPr/>
        </p:nvPicPr>
        <p:blipFill>
          <a:blip r:embed="rId3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6" descr=""/>
          <p:cNvPicPr/>
          <p:nvPr/>
        </p:nvPicPr>
        <p:blipFill>
          <a:blip r:embed="rId4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6" descr=""/>
          <p:cNvPicPr/>
          <p:nvPr/>
        </p:nvPicPr>
        <p:blipFill>
          <a:blip r:embed="rId5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66" dur="2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5" dur="5000" fill="hold"/>
                                        <p:tgtEl>
                                          <p:spTgt spid="1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9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1" dur="5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C2D1D-CB15-48C7-966D-8F88FFE10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2997360" y="1447920"/>
            <a:ext cx="31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4"/>
          <p:cNvSpPr/>
          <p:nvPr/>
        </p:nvSpPr>
        <p:spPr>
          <a:xfrm>
            <a:off x="2590200" y="358128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-12952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-1371600" y="228600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2" descr=""/>
          <p:cNvPicPr/>
          <p:nvPr/>
        </p:nvPicPr>
        <p:blipFill>
          <a:blip r:embed="rId3"/>
          <a:stretch/>
        </p:blipFill>
        <p:spPr>
          <a:xfrm>
            <a:off x="-137160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2" descr=""/>
          <p:cNvPicPr/>
          <p:nvPr/>
        </p:nvPicPr>
        <p:blipFill>
          <a:blip r:embed="rId4"/>
          <a:stretch/>
        </p:blipFill>
        <p:spPr>
          <a:xfrm>
            <a:off x="-1447920" y="2286000"/>
            <a:ext cx="110484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93" dur="20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2" dur="50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6" dur="2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8" dur="5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ce wor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 fas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0CED-0776-429D-B738-B3255B1C4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2"/>
          <p:cNvSpPr/>
          <p:nvPr/>
        </p:nvSpPr>
        <p:spPr>
          <a:xfrm>
            <a:off x="1605240" y="28432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694AC-7BBF-4EF2-A9BA-79035F9C2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24" name="Text Box 2"/>
          <p:cNvSpPr/>
          <p:nvPr/>
        </p:nvSpPr>
        <p:spPr>
          <a:xfrm>
            <a:off x="1969560" y="392112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5" name="Group 5"/>
          <p:cNvGrpSpPr/>
          <p:nvPr/>
        </p:nvGrpSpPr>
        <p:grpSpPr>
          <a:xfrm>
            <a:off x="-1893960" y="2143080"/>
            <a:ext cx="1712880" cy="1712880"/>
            <a:chOff x="-1893960" y="2143080"/>
            <a:chExt cx="1712880" cy="1712880"/>
          </a:xfrm>
        </p:grpSpPr>
        <p:pic>
          <p:nvPicPr>
            <p:cNvPr id="1126" name="Picture 6" descr=""/>
            <p:cNvPicPr/>
            <p:nvPr/>
          </p:nvPicPr>
          <p:blipFill>
            <a:blip r:embed="rId1"/>
            <a:stretch/>
          </p:blipFill>
          <p:spPr>
            <a:xfrm>
              <a:off x="-1893960" y="2143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7" descr=""/>
            <p:cNvPicPr/>
            <p:nvPr/>
          </p:nvPicPr>
          <p:blipFill>
            <a:blip r:embed="rId2"/>
            <a:stretch/>
          </p:blipFill>
          <p:spPr>
            <a:xfrm>
              <a:off x="-1817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8" descr=""/>
            <p:cNvPicPr/>
            <p:nvPr/>
          </p:nvPicPr>
          <p:blipFill>
            <a:blip r:embed="rId3"/>
            <a:stretch/>
          </p:blipFill>
          <p:spPr>
            <a:xfrm>
              <a:off x="-674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9" name="Text Box 9"/>
          <p:cNvSpPr/>
          <p:nvPr/>
        </p:nvSpPr>
        <p:spPr>
          <a:xfrm>
            <a:off x="1406880" y="14176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"/>
          <p:cNvPicPr/>
          <p:nvPr/>
        </p:nvPicPr>
        <p:blipFill>
          <a:blip r:embed="rId4"/>
          <a:stretch/>
        </p:blipFill>
        <p:spPr>
          <a:xfrm>
            <a:off x="-1676520" y="4952880"/>
            <a:ext cx="1104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5"/>
          <p:cNvGrpSpPr/>
          <p:nvPr/>
        </p:nvGrpSpPr>
        <p:grpSpPr>
          <a:xfrm>
            <a:off x="-1905120" y="2173320"/>
            <a:ext cx="1712880" cy="1712880"/>
            <a:chOff x="-1905120" y="2173320"/>
            <a:chExt cx="1712880" cy="1712880"/>
          </a:xfrm>
        </p:grpSpPr>
        <p:pic>
          <p:nvPicPr>
            <p:cNvPr id="1132" name="Picture 6" descr=""/>
            <p:cNvPicPr/>
            <p:nvPr/>
          </p:nvPicPr>
          <p:blipFill>
            <a:blip r:embed="rId5"/>
            <a:stretch/>
          </p:blipFill>
          <p:spPr>
            <a:xfrm>
              <a:off x="-1905120" y="21733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7" descr=""/>
            <p:cNvPicPr/>
            <p:nvPr/>
          </p:nvPicPr>
          <p:blipFill>
            <a:blip r:embed="rId6"/>
            <a:stretch/>
          </p:blipFill>
          <p:spPr>
            <a:xfrm>
              <a:off x="-1828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8" descr=""/>
            <p:cNvPicPr/>
            <p:nvPr/>
          </p:nvPicPr>
          <p:blipFill>
            <a:blip r:embed="rId7"/>
            <a:stretch/>
          </p:blipFill>
          <p:spPr>
            <a:xfrm>
              <a:off x="-685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5" name="Picture 2" descr=""/>
          <p:cNvPicPr/>
          <p:nvPr/>
        </p:nvPicPr>
        <p:blipFill>
          <a:blip r:embed="rId8"/>
          <a:stretch/>
        </p:blipFill>
        <p:spPr>
          <a:xfrm>
            <a:off x="-1714680" y="503388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1.25504 -0.01505 E">
                                      <p:cBhvr>
                                        <p:cTn id="133" dur="20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1.24792 -0.00509 E">
                                      <p:cBhvr>
                                        <p:cTn id="140" dur="2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1111 L 1.25416 -0.02477 E">
                                      <p:cBhvr>
                                        <p:cTn id="14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111 L 1.2566 -0.01481 E">
                                      <p:cBhvr>
                                        <p:cTn id="146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936B6-C32E-4CFB-BCC2-5BC87DA57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8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158" dur="5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67" dur="5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171" dur="5000" fill="hold"/>
                                        <p:tgtEl>
                                          <p:spTgt spid="1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1.47014 -0.01343 E">
                                      <p:cBhvr>
                                        <p:cTn id="173" dur="5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0168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e name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“heavy” 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45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44045-ECBE-4166-9EA3-9A19A6A8D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2748240" y="283212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5:58:28Z</dcterms:created>
  <dc:creator>Joe Afflerbach</dc:creator>
  <dc:description/>
  <dc:language>en-US</dc:language>
  <cp:lastModifiedBy>Afflerbach, Joe</cp:lastModifiedBy>
  <dcterms:modified xsi:type="dcterms:W3CDTF">2014-10-20T15:30:26Z</dcterms:modified>
  <cp:revision>23</cp:revision>
  <dc:subject/>
  <dc:title>Chapter 6   Momentum and Collisions</dc:title>
</cp:coreProperties>
</file>